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5357-90F7-4DFE-8B87-0907B36AB8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EE2C-DCAF-4988-B822-0664E23FCE3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сделана в помощь преподавателям. В ней собран основной базовый материал, по которому преподаватели могут структурировать свои обычные уроки и уроки-зачёты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ое методическое обеспечение программного раздела фортепианной программы  "Гаммы" , разработано в помощь преподавателям фортепиано с 3 по 7 класс. Оно включает в себя наиболее подробную информацию по этому разделу. Разработано в виде презентации, которую преподаватели могут использовать как на обычных уроках, так и на уроках -зачётах по гаммам, и  комплексных зачётах. Так же, формируя, раздел фортепианного урока " гаммы", каждый преподаватель может творчески подойти к этому материалу и добавить в презентацию необходимый материал урока, составить нужные задания, отвечающие цели урока. Примеры заданий для комплексных зачётов приведены в презентации. Материал этих слайдов может являться как базой для проведения комплексных уроков зачётов в классах специального инструмента «фортепиано», так и материалом для разработки раздела « гаммы» плановых уроков . В презентации приведены основные базовые требования к знаниям по программному разделу « Гаммы»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CFC5-4781-4F32-B348-DB936C75BF4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тот слайд использовать лучше на уроке – зачёте, уроке- повторении. На его основе можно создать более расширенный слайд-тес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F97E-AB9F-48D3-AB3F-2981973FF9D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ычно слайды, несущие информацию об аппликатурных принципах , необходимую почти на каждом уроке фортепиано, можно использовать для разработки раздела    «гаммы» текущих  уроков фортепиа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3CA0-4087-419B-A4E0-4EFF7D05549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используется для разработки раздела урока « гаммы» на текущих уроках фортепиа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E558-CCE0-4467-9C3D-F39B8216A6E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т слайд используется в качестве задания « на оценку» на уроке-зачё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0CCD-4D3A-461A-85C9-D59FE170961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сделан для учащихся младших классов, так как в старших классах, опыт показывает, он теряет свою актуальность. Учащиеся знают этот материал. Но для создания презентаций к урокам по гаммам, этот слайд необходим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8AF3-2C92-4427-950C-011D28B9669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тот слайд используется для учащихся младших классов, но любой преподаватель может добавить сюда необходимые для зачёта терми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AD56-5387-428F-9565-0EFACD2FC6E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то задание можно предложить как на обычном уроке, так и на уроке зачёте.После выполнения задания, дать следующий слайд « Основные шаги анализа нотного текста», как проверочный к этому заданию. На уроке изучения этого материала, даётся сначала таблица, затем зад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BD1B-EE8C-4247-936D-65F976E65F2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с таблицей анализа нотного текста, необходим для работы на многих уроках, где отрабатывается навык чтения нотного текста. Так же используется на уроке- зачёте  как схема анализа или по ней формируются дополнительные задания преподавателем.( Например: найти репризы, повторения и т.д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0F28-ACBD-47FD-982D-B7589F4F440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дание этого слайда может быть использовано на комплексном уроке- зачёте. Музыкальные примеры педагог может взять из любого учебника с которым работа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C87E-DE36-484E-A301-9E794200A02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тот слайд необходим как на обычных уроках подготовки к техническим зачётам, так и на самом зачёте.  Каждый педагог формирует рефлексию согласно тем заданиям и материалу, который отрабатывается в данный момен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D82F-4023-4B5F-9D80-FB2E83FA767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фровка понятия « Гамма» может быть как материалом предыдущих уроков, « Уроков нового материала», так и повторением этого понятия на уроке –зачёте. Слайды №2,3,4,5- слайды информационные и могут быть использованы на предыдущих « уроку-зачёту» занятия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EA03-3C3E-48B2-9FA5-5FB62078D25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едующие слайды могут быть применены как всплывающие подсказки на «уроке –зачёте», после ответов учеников, о строении кварто-квинтового круга, порядка появления диезов и бемолей в гаммах, либо на предыдущих уроках в качестве нового матери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FE70-7C88-4294-A6F8-A549B0BF96F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ля подготовки уроков с 4 по 8 класс, из таблиц можно выбирать материал, соответствующий классу, остальную часть таблицы использовать по мере изучения материа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ля учащихся младших классов таблицу лучше дробить по мере прохождения материа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10B9-AEEE-45AE-B0E4-700550661CB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орма заданий, данная в этом слайде, может использоваться в любом классе, но наполнение задания идёт по степени усложнения программных требований по класс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F43D-ED0F-4F65-A445-098F2FCEEE2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 №5,6,7 полезны для просмотра учащимся с 1 по 8 класс. Для самых маленьких таблицу рекомендуется форматировать в крупный формат и разделять по темам изучения гамм ( аккорды, арпеджио. Аппликатура), то есть таблицу давать по част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аблица от трёх знаков даётся в материале от 4 года обучения, особенности аппликатуры этих гамм изучаются отдельно, так как они представляют определённую слож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BED1-7820-4DB4-B7F8-C6BA519B748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изучении бемольных гамм, обязательно заострять внимание на системность применения 4 пальца в правой руке на си бемоль, и в левой на вновь появляющемся бемоле в мажорных бемольных гам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5CBE-7ADA-473D-ACB5-E6CB039E494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5EAA-EDB0-48F9-BD33-3A639A07A43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ы №9,11,12 информационные, их использование целесообразно на уроках предшествующих урокам –зачётам, при работе над звукоизвлечением, аппликатурой (слайд11,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4A33-6604-44F8-A753-6BCA8848F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1EBC-765B-4DCB-A328-A63BE1E1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B617-3AD8-42DB-AC99-857E9DA22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5555-F5E9-49CD-B5D6-7E0D51830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37219-F926-458F-AC22-42C14AD1E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536C-D39A-4C94-9B5A-3434FA22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7E01-E093-402F-B7C9-31F3BAA1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EE13-1D4F-4395-A186-97D5F535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555A-0408-497C-9A0F-3D032476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F7CB-E354-4603-BCD2-F95D6DED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E794-1BB0-4C8C-976D-C17A99BD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286A-36DE-4D84-A9A3-286723CB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A06A-58DA-4E3F-AF25-7982FDFA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5EDA-3168-44F5-93BC-139AFD56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2BAC0-3E1C-43A8-95E2-D589A423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3DA9-A8A6-4234-9195-C53C4F962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CF56-0CC1-4F8B-BA71-08E73A18B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9B16-C0ED-4FBF-ADDD-53147C30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77B7-4F65-4B29-B9F8-AFCF285D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2F7E-08DF-4FB7-B2D0-B95F7723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2596-8A48-454B-8AEA-3E1E3C6B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BFF4-62B6-4E94-BD76-EB95C49A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5E74-1EB1-403F-B2C8-D520B880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9E4E-9ADE-4124-8A44-0225464F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FAD3-B8C2-4673-8F29-4EA8CE53684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41F3-2AA7-41AB-812F-B1CDA1C9DD4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Информационно-методическое обеспечение программного раздела «Гаммы» по предмету фортепиано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258560" y="1699920"/>
            <a:ext cx="64738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Гаммы и принципы их исполнения, и строен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Музыкальная терминолог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Чтение нот с лист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826920" y="3202560"/>
            <a:ext cx="7921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аммы были придуманы для развития техники игры на музыкальном инструменте. На каком бы вы ни учились играть инструменте, вам придётся играть гаммы - без этого обучение будет иметь меньшую эффективность. Гаммы обладают следующими особенностями: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) Развивают растяжку пальцев рук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и беглость 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) Развивают чувство клавиатуры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) Развивают независимость действий пальцев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) Развивают слух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) Развивают чувство ритм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Задание№2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ие элементы гаммы вы знаете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грать какой –нибудь элемент гаммы и рассказать об исполнительских и аппликатурных задачах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Аппликатурные принципы в одноимённых гаммах с тремя знакам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 мажор, до мино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е мажор, ре мино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и мажор, ми мино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ль мажор, соль мино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я мажор,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я мино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авая рука 1,2,3,1,2,3,4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евая рука 5,4,3,2,1,3,2,1,4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Аппликатурные принципы бемольных  гамм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правой руке «4» палец в мажорных гаммах всегда на «си бемоль»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левой руке на новом бемоле в гамм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минорных бемольных гаммах до трёх знаков, аппликатура - как в мажорны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сполнить бемольную гамму в две октавы, отдельно каждой рукой, сохраняя аппликатурные правил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56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Аппликатура в аккордах и арпеджио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Задание № 3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40384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сполнить аккорды и рассказать об аппликатурных правилах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48320" y="2636640"/>
            <a:ext cx="4038480" cy="34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сполнить арпеджио и рассказать об аппликатурных правилах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Аппликатурные принципы исполнения хроматической гаммы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сполняется 1и3 пальцами, за исключением тех мест на клавиатуре, где нет чёрных клавиш, там ставится 2 палец, по физиологическому направлению рук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чинается и заканчивается гамма на 1 пальце каждой рук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Задание№4 : исполнить хроматическую гамм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Музыкальная терминология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ложите темпы по группам: быстрые медленные и умеренны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Verdana"/>
              </a:rPr>
              <a:t>Allegro –– Vivace – Presto</a:t>
            </a:r>
            <a:br>
              <a:rPr sz="3200"/>
            </a:br>
            <a:r>
              <a:rPr b="1" lang="it-IT" sz="3200" spc="-1" strike="noStrike">
                <a:solidFill>
                  <a:srgbClr val="ffffff"/>
                </a:solidFill>
                <a:latin typeface="Verdana"/>
              </a:rPr>
              <a:t>Largo – Lento –– Adagio</a:t>
            </a:r>
            <a:br>
              <a:rPr sz="3200"/>
            </a:br>
            <a:r>
              <a:rPr b="1" lang="it-IT" sz="3200" spc="-1" strike="noStrike">
                <a:solidFill>
                  <a:srgbClr val="ffffff"/>
                </a:solidFill>
                <a:latin typeface="Verdana"/>
              </a:rPr>
              <a:t>Andante – Andantino- Moderat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Задание№4:Перевести терминологи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Задание №5 работа с карточками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арточках у каждого учащегося даны два шага анализа нотного текста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 по таблице « Основные шаги анализа нотного текста», второй не правильный. Нужно выбрать правильный шаг. Таким образом собрать весь путь анализа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«ОСНОВНЫЕ ШАГИ АНАЛИЗА НОТНОГО ТЕКСТА»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Определить тональность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i="1" lang="ru-RU" sz="1400" spc="-1" strike="noStrike">
                <a:solidFill>
                  <a:srgbClr val="ffffff"/>
                </a:solidFill>
                <a:latin typeface="Verdana"/>
              </a:rPr>
              <a:t>ключевые знаки, последнюю ноту или аккорд, основные функции, случайные знаки.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Определить размер</a:t>
            </a:r>
            <a:r>
              <a:rPr b="1" i="1" lang="ru-RU" sz="14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ru-RU" sz="1400" spc="-1" strike="noStrike">
                <a:solidFill>
                  <a:srgbClr val="ffffff"/>
                </a:solidFill>
                <a:latin typeface="Verdana"/>
              </a:rPr>
              <a:t>усвоить основной ритмический рисунок, простучать его про себя, увидеть в тексте смену ритма, если она имеется.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Отметить – </a:t>
            </a:r>
            <a:r>
              <a:rPr b="0" i="1" lang="ru-RU" sz="1400" spc="-1" strike="noStrike">
                <a:solidFill>
                  <a:srgbClr val="ffffff"/>
                </a:solidFill>
                <a:latin typeface="Verdana"/>
              </a:rPr>
              <a:t>репризы, повторяющиеся фрагменты, части, секвенции, вольты, если они имеются.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Найти в тексте </a:t>
            </a:r>
            <a:r>
              <a:rPr b="0" i="1" lang="ru-RU" sz="1400" spc="-1" strike="noStrike">
                <a:solidFill>
                  <a:srgbClr val="ffffff"/>
                </a:solidFill>
                <a:latin typeface="Verdana"/>
              </a:rPr>
              <a:t>сложные места  и использовать упрощение без потери смыслового звучания произведения.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Найти в тексте </a:t>
            </a:r>
            <a:r>
              <a:rPr b="0" i="1" lang="ru-RU" sz="1400" spc="-1" strike="noStrike">
                <a:solidFill>
                  <a:srgbClr val="ffffff"/>
                </a:solidFill>
                <a:latin typeface="Verdana"/>
              </a:rPr>
              <a:t>простые места и использовать их для прочтения и анализа последующего текста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Определить </a:t>
            </a:r>
            <a:r>
              <a:rPr b="0" i="1" lang="ru-RU" sz="1400" spc="-1" strike="noStrike">
                <a:solidFill>
                  <a:srgbClr val="ffffff"/>
                </a:solidFill>
                <a:latin typeface="Verdana"/>
              </a:rPr>
              <a:t>темп и характер произведения.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Пропеть и прослушать «про себя» начало произведения и начинать читать текст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Verdana"/>
              </a:rPr>
              <a:t>При чтении нот с листа не останавливаться! Сохранять ритмический рисунок и гармоническую основу произведения!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ru-RU" sz="9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Задание№6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анализировать данные музыкальные пример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вести в них терминологию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читать с листа музыкальный приме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ового вы узнали на уроке о гаммах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е исполнение гаммы больше всего понравилось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ая гамма для тебя самая сложная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ужно для того чтобы преодолеть трудности в исполнении гам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Что- такое гамма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Га́мм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в теории музыки — звукоряд неопределённой протяжённости, соседние ступени которого отстают друг от друга на целый тон или полутон. Под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гаммой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в школьной исполнительской практике подразумевают восходящие либо нисходящие октавные звукоряды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Порядок появления диезов и бемолей в гаммах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9" name="Picture 5" descr="&amp;Kcy;&amp;vcy;&amp;icy;&amp;ncy;&amp;tcy;&amp;ocy;&amp;vcy;&amp;ycy;&amp;jcy; &amp;kcy;&amp;rcy;&amp;ucy;&amp;gcy;"/>
          <p:cNvPicPr/>
          <p:nvPr/>
        </p:nvPicPr>
        <p:blipFill>
          <a:blip r:embed="rId1"/>
          <a:stretch/>
        </p:blipFill>
        <p:spPr>
          <a:xfrm>
            <a:off x="1908000" y="1359000"/>
            <a:ext cx="525636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Таблица появления знаков в тональностях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До-мажор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Verdana"/>
              </a:rPr>
              <a:t>ЗНАКОВ НЕТ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ля-минор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Соль-мажор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ми-минор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ФА#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Ре-мажор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си-минор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 ФА# ; ДО#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Ля-мажор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фа #-минор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  ФА# ;ДО# ;СОЛЬ#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Ми-мажор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до#-минор    ФА# ;ДО# СОЛЬ#;РЕ#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си-мажор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соль #-минор  ФА# ;ДО# ;СОЛЬ# ;РЕ# ЛЯ#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2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800"/>
            </a:br>
            <a:br>
              <a:rPr sz="800"/>
            </a:br>
            <a:r>
              <a:rPr b="1" lang="ru-RU" sz="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2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ru-RU" sz="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3280" y="1628640"/>
            <a:ext cx="432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Фа-мажор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ре-минор             си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Ƿ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и-мажор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соль-минор        си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Ƿ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; ми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Ƿ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Ми-мажор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до-минор        си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Ƿ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; ми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Ƿ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; ля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Ƿ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Ля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Ƿ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-мажор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Фа-минор си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Ƿ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; ми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Ƿ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; ля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Ƿ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; ре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Ƿ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Ре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Ƿ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-мажор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си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Ƿ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-минор   си; ми; ля;ре;сол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Задание №1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аблице гамм положить знаки по принадлежности к гамм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положить гаммы по параллелям: мажорную к её минорным( 3 вида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Таблица гамм, аккордов и арпеджио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Picture 9" descr="x_cfbebd60"/>
          <p:cNvPicPr/>
          <p:nvPr/>
        </p:nvPicPr>
        <p:blipFill>
          <a:blip r:embed="rId1"/>
          <a:stretch/>
        </p:blipFill>
        <p:spPr>
          <a:xfrm>
            <a:off x="539640" y="1628640"/>
            <a:ext cx="3670560" cy="4535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x_5173ed3d"/>
          <p:cNvPicPr/>
          <p:nvPr/>
        </p:nvPicPr>
        <p:blipFill>
          <a:blip r:embed="rId2"/>
          <a:stretch/>
        </p:blipFill>
        <p:spPr>
          <a:xfrm>
            <a:off x="4873680" y="1557360"/>
            <a:ext cx="35859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Таблица гамм аккордов и арпеджио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71640" y="2204640"/>
            <a:ext cx="2736720" cy="34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3" name="Picture 8" descr="x_ef1172d6"/>
          <p:cNvPicPr/>
          <p:nvPr/>
        </p:nvPicPr>
        <p:blipFill>
          <a:blip r:embed="rId1"/>
          <a:stretch/>
        </p:blipFill>
        <p:spPr>
          <a:xfrm>
            <a:off x="398520" y="1557360"/>
            <a:ext cx="3946320" cy="4535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x_044cdfa8"/>
          <p:cNvPicPr/>
          <p:nvPr/>
        </p:nvPicPr>
        <p:blipFill>
          <a:blip r:embed="rId2"/>
          <a:stretch/>
        </p:blipFill>
        <p:spPr>
          <a:xfrm>
            <a:off x="4788000" y="1557360"/>
            <a:ext cx="38750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Таблица гамм аккордов и арпеджио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338292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Picture 8" descr="x_114c316d"/>
          <p:cNvPicPr/>
          <p:nvPr/>
        </p:nvPicPr>
        <p:blipFill>
          <a:blip r:embed="rId1"/>
          <a:stretch/>
        </p:blipFill>
        <p:spPr>
          <a:xfrm>
            <a:off x="395280" y="1341360"/>
            <a:ext cx="3600360" cy="3456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x_14df9370"/>
          <p:cNvPicPr/>
          <p:nvPr/>
        </p:nvPicPr>
        <p:blipFill>
          <a:blip r:embed="rId2"/>
          <a:stretch/>
        </p:blipFill>
        <p:spPr>
          <a:xfrm>
            <a:off x="395280" y="4757760"/>
            <a:ext cx="3600360" cy="1703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3" descr="x_044cdfa8"/>
          <p:cNvPicPr/>
          <p:nvPr/>
        </p:nvPicPr>
        <p:blipFill>
          <a:blip r:embed="rId3"/>
          <a:stretch/>
        </p:blipFill>
        <p:spPr>
          <a:xfrm>
            <a:off x="4844880" y="1268280"/>
            <a:ext cx="37134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Динамические и звуковые требования к исполнению гаммы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овность в звукоизвлечении и динамике ( если нет задачи: вверх-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reshendo?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низ-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minyendo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Аккорды: звукоизвлечение плотное, одинаково ровное для всех пальце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Арпеджио: звукоизвлечение мягкое и плотное, все звуки – ровно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4T11:17:03Z</dcterms:created>
  <dc:creator>Дом</dc:creator>
  <dc:description/>
  <dc:language>en-US</dc:language>
  <cp:lastModifiedBy>Юрий</cp:lastModifiedBy>
  <dcterms:modified xsi:type="dcterms:W3CDTF">2019-01-02T08:22:51Z</dcterms:modified>
  <cp:revision>26</cp:revision>
  <dc:subject/>
  <dc:title>Комплексный урок - зачёт</dc:title>
</cp:coreProperties>
</file>